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D091-A53F-47DF-832D-1B18629B4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F516-690C-4FC4-B5F6-61403AB0E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BB0-51A8-4607-AD56-2774A824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B07-792A-4806-844D-52979802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26F-A017-4F1D-B9D0-4C99CCDB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989-391B-4EAB-9854-74AB564E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F78-2596-4EC7-B258-BD958549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1C1-E2D4-4C53-96D5-1613B9A3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522-6E63-46C8-A11E-D26719DD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DD5-B6A7-4C8C-8186-3674B999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B69-1E1A-45C7-9562-071D4E9E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FF8-C007-4DDA-9461-A2AF756E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866-12A9-46F2-92F8-CE06F7F8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D54-3419-46B6-8175-8DDABDC7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0825-D487-4758-8AFC-E00DC12C2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Yo soy Anum. Tengo catorce años. Yo soy feliz y emocionada. Vivo en New York City. Tengo dos hermanas. Amo alimento y voleib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ual Burger King son tu en y tienes                                                                                                  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Nosotras estamo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 Burger King ahora mismo!                                                                     Nai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iero alimento!! Donde esta Naimah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¡Buenos días, amiga bonita! ¿cómo estás?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ias, Mireya. Tu eres un hambrienta chika.                   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. Ella es también una chica loca. 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21337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350361690236.jpg"/>
          <p:cNvPicPr/>
          <p:nvPr/>
        </p:nvPicPr>
        <p:blipFill>
          <a:blip r:embed="rId6"/>
          <a:stretch/>
        </p:blipFill>
        <p:spPr>
          <a:xfrm flipH="1">
            <a:off x="2133360" y="3809880"/>
            <a:ext cx="533160" cy="60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anumfakebook.jpg"/>
          <p:cNvPicPr/>
          <p:nvPr/>
        </p:nvPicPr>
        <p:blipFill>
          <a:blip r:embed="rId7"/>
          <a:stretch/>
        </p:blipFill>
        <p:spPr>
          <a:xfrm>
            <a:off x="2133720" y="251460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naimahfakebook.jpg"/>
          <p:cNvPicPr/>
          <p:nvPr/>
        </p:nvPicPr>
        <p:blipFill>
          <a:blip r:embed="rId8"/>
          <a:stretch/>
        </p:blipFill>
        <p:spPr>
          <a:xfrm>
            <a:off x="2133720" y="318132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mireyafakebook.jpg"/>
          <p:cNvPicPr/>
          <p:nvPr/>
        </p:nvPicPr>
        <p:blipFill>
          <a:blip r:embed="rId9"/>
          <a:stretch/>
        </p:blipFill>
        <p:spPr>
          <a:xfrm>
            <a:off x="2133720" y="4495680"/>
            <a:ext cx="457200" cy="4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4" descr="1350361690236.jpg"/>
          <p:cNvPicPr/>
          <p:nvPr/>
        </p:nvPicPr>
        <p:blipFill>
          <a:blip r:embed="rId10"/>
          <a:stretch/>
        </p:blipFill>
        <p:spPr>
          <a:xfrm flipH="1">
            <a:off x="2133360" y="510552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mireyafakebook.jpg"/>
          <p:cNvPicPr/>
          <p:nvPr/>
        </p:nvPicPr>
        <p:blipFill>
          <a:blip r:embed="rId11"/>
          <a:stretch/>
        </p:blipFill>
        <p:spPr>
          <a:xfrm>
            <a:off x="2133720" y="6019920"/>
            <a:ext cx="4572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8:07Z</dcterms:modified>
  <cp:revision>109</cp:revision>
  <dc:subject/>
  <dc:title>Profile</dc:title>
</cp:coreProperties>
</file>